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9006-8593-4CDB-8C5A-1579EA507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849C-70FF-48E5-B8BF-DA6312AC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4CD9-B4D1-4160-99FF-1B30D130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195F-E751-4F01-B077-2D94D8DC1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1D0C-F7ED-4C7B-8B69-55921E49F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0C17-2C25-42EE-A62A-CD3E115D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4C26-AFC0-455D-9174-B8412A44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9F79-C260-41BE-9224-C1679F4B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6159-45CD-4C69-863F-1B2A1EE8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C4F4-5611-4060-A0C7-7EFDE818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854B-746D-4A4A-8F7B-DDE448FA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2E5A-4921-48B3-9739-F88851C3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CD70-4F46-48A4-BE53-516FF60A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D71A-08D6-402B-8DF0-34B7F26F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184D-B283-4FA5-9E36-3AE67123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C910-6A1A-42A2-B4DC-FA08452EE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AD67-01F0-4E8B-9513-08052011F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8A75D-6BD8-430A-9719-9FDB8ACE8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99A01-1440-4C7D-8858-D908278D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4D8D9-C498-46D1-B2B6-8A8C52A0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5BC28-C34A-4B04-90B5-B5540683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42DA8-27D0-473C-8C0E-15F2ABD9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C439-9EC0-468E-AF67-C9FB768A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74A51-2FB1-400E-8E3A-BB35D589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72AC2-0F79-4997-94EA-BEEEFF81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983F2-BA91-4036-B4FE-8D2D3C9E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CC8BA-9661-4552-A4DF-83584907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205E4-1250-4048-A22E-A0CBC4D8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D9EB7-96BC-4A2E-BA36-F6571053D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BB677-F411-4BDB-A684-1E4187241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7DAF7-44CF-4249-A8FC-E02777E6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6E712-4E62-4C5C-AB4F-487458A2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E65C6-07F2-49D5-9B53-593848AF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9605-4508-43F7-BFFC-128E0143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4AECF-A905-4B68-BFDA-C527EB2E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F4DE8-95B7-4B45-B9BB-2686E42D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4891E-659B-44F6-AE1E-78B6C975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47140-3B1F-4336-945B-B7A5935B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5FAE0-B7A2-4B53-8745-B0251042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08411-17A7-4108-8B21-62B70787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10C85-7DB5-42F8-B3F7-D84CA00C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F1309-78F5-4D1C-855E-A20D98A4C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70398-1360-4BB2-8271-474288A36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5FE3-9D6C-4323-81AC-27EE8081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E234-7061-40D9-8C74-A351793B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6F4D-7FF9-4CFF-B682-15BE4977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6497-722C-41B5-93F9-DFCE9289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A540-608E-41F2-947A-E5AF0D4B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任意多边形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71E7-699C-49DE-B197-B99AC846EF02}" type="slidenum"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任意多边形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任意多边形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任意多边形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任意多边形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78D8-EBE0-45C2-9CAE-4014E6F5F0A3}" type="slidenum"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任意多边形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任意多边形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任意多边形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87F1-E352-4AC9-A79C-70C68280F7A1}" type="slidenum"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单圆角矩形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直角三角形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任意多边形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任意多边形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9D4C-DE85-410D-856B-768B393400F9}" type="slidenum"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标题 1" descr=""/>
          <p:cNvPicPr/>
          <p:nvPr/>
        </p:nvPicPr>
        <p:blipFill>
          <a:blip r:embed="rId2"/>
          <a:stretch/>
        </p:blipFill>
        <p:spPr>
          <a:xfrm>
            <a:off x="566640" y="493560"/>
            <a:ext cx="8010720" cy="2725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00040" y="64296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女性筛查项目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推荐）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28760" y="1357200"/>
          <a:ext cx="8501040" cy="4395960"/>
        </p:xfrm>
        <a:graphic>
          <a:graphicData uri="http://schemas.openxmlformats.org/drawingml/2006/table">
            <a:tbl>
              <a:tblPr/>
              <a:tblGrid>
                <a:gridCol w="3400560"/>
                <a:gridCol w="510048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项目类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选择建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人类乳头状病毒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P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）测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有性生活史者，建议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至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岁期间联合宫颈刮片，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年检查一次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乳腺彩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.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普通女性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岁以后每年一次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危女性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岁以后每年一次，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岁以上应加拍乳腺钼靶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三碘甲状腺原氨酸（总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）、甲状腺腺素（总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）、促甲状腺生成素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SH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适用于放射性暴露、碘摄入异常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岁以上女性、有甲状腺疾病家族史者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500040" y="50004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下人员肺部疾病、心血管及甲状腺疾病筛查项目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28760" y="1357200"/>
          <a:ext cx="8501040" cy="5099040"/>
        </p:xfrm>
        <a:graphic>
          <a:graphicData uri="http://schemas.openxmlformats.org/drawingml/2006/table">
            <a:tbl>
              <a:tblPr/>
              <a:tblGrid>
                <a:gridCol w="3400560"/>
                <a:gridCol w="5100480"/>
              </a:tblGrid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项目类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选择建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胸部低剂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扫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适应人群：长期吸烟或被动吸烟、环境污染接触、有肺癌家族史者，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岁以上建议每年检查一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2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血载脂蛋白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和血载脂蛋白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ts val="2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适用于高血脂、高血压家族史；冠心病、脑血管病或周围动脉粥样硬化；大于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岁的男性、绝经期后的女性；高血压、高血糖、高体重；经常食用高热量、高胆固醇、高饱和脂肪酸类食物；生活无规律，情绪易激动，精神处于紧张状态，或长期吸烟酗酒；缺乏运动等人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甲状腺功能检查：总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、总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T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T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适用于放射性暴露、碘摄入异常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岁以上女性、有甲状腺疾病家族史者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Calibri"/>
              </a:rPr>
              <a:t>“</a:t>
            </a:r>
            <a:r>
              <a:rPr b="0" lang="zh-CN" sz="5400" spc="-1" strike="noStrike">
                <a:solidFill>
                  <a:srgbClr val="c00000"/>
                </a:solidFill>
                <a:latin typeface="Calibri"/>
              </a:rPr>
              <a:t>X”</a:t>
            </a:r>
            <a:r>
              <a:rPr b="0" lang="zh-CN" sz="5400" spc="-1" strike="noStrike">
                <a:solidFill>
                  <a:srgbClr val="c00000"/>
                </a:solidFill>
                <a:latin typeface="Calibri"/>
              </a:rPr>
              <a:t>项目内容及意义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28760" y="2356920"/>
            <a:ext cx="85010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（二）普干健康体检备选项目选择建议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500040" y="7858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肿瘤标志物及甲状腺疾病筛查项目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28760" y="1500120"/>
          <a:ext cx="8501040" cy="4835520"/>
        </p:xfrm>
        <a:graphic>
          <a:graphicData uri="http://schemas.openxmlformats.org/drawingml/2006/table">
            <a:tbl>
              <a:tblPr/>
              <a:tblGrid>
                <a:gridCol w="3400560"/>
                <a:gridCol w="5100480"/>
              </a:tblGrid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项目类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选择建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肿瘤标志物：血清糖类抗原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24(CA-724)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血清糖类抗原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4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A-24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）；神经元特异烯醇化酶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NSE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）、鳞状上皮细胞癌相关抗原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SC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ts val="29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倾向于消化、呼吸系统的肿瘤标志物。适用于有胃溃疡、幽门螺杆菌感染、胃肠肿瘤家族史，经常食用烟熏、腌制、高盐、霉变食物习惯；长期吸烟、环境污染、有肺部肿瘤家族史的可选择定期检查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ts val="27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甲状腺功能检查：三碘甲状腺原氨酸（总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）、甲状腺腺素（总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）、促甲状腺生成素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SH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放射性暴露、碘摄入异常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岁以上女性、有甲状腺疾病家族史者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00040" y="7858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胃幽门螺旋杆菌及心血管疾病筛查项目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28760" y="1500120"/>
          <a:ext cx="8501040" cy="4357800"/>
        </p:xfrm>
        <a:graphic>
          <a:graphicData uri="http://schemas.openxmlformats.org/drawingml/2006/table">
            <a:tbl>
              <a:tblPr/>
              <a:tblGrid>
                <a:gridCol w="3400560"/>
                <a:gridCol w="5100480"/>
              </a:tblGrid>
              <a:tr h="53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项目类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选择建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幽门螺杆菌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宋体"/>
                        </a:rPr>
                        <a:t>1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呼气试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阳性者建议每年一次 ；阴性者可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-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年一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尿微量白蛋白、尿转铁蛋白、尿免疫球蛋白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、尿四环醇结合蛋白、尿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AG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酶、尿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α1-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微球蛋白、尿肌酐、尿微量白蛋白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尿肌酐、尿免疫球蛋白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尿肌酐、尿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α1-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微球蛋白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尿肌酐；血载脂蛋白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和血载脂蛋白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适用于以下高风险人群：有高血脂、高血压家族史；冠心病、脑血管病或周围动脉粥样硬化；大于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岁的男性、绝经期后的女性；高血压、高血糖、高体重；经常食用高热量、高胆固醇、高饱和脂肪酸类食物；生活无规律，情绪易激动，精神处于紧张状态，或长期吸烟酗酒；缺乏运动等情况；既往尿蛋白两次以上阳性者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00040" y="7858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糖尿病及代谢性疾病筛查项目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28760" y="1500120"/>
          <a:ext cx="8501040" cy="3957480"/>
        </p:xfrm>
        <a:graphic>
          <a:graphicData uri="http://schemas.openxmlformats.org/drawingml/2006/table">
            <a:tbl>
              <a:tblPr/>
              <a:tblGrid>
                <a:gridCol w="3400560"/>
                <a:gridCol w="5100480"/>
              </a:tblGrid>
              <a:tr h="57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项目类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选择建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糖化血红蛋白；空腹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肽、胰岛素；餐后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小时血糖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肽、胰岛素；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-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反应蛋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适用于糖尿病家族史；高血脂、高血压家族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史；冠心病、脑血管病或周围动脉粥样硬化；大于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岁的男性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绝经期后的女性；高血压、高血糖、高体重；经常食用高热量、高胆固醇、高饱和脂肪酸类食物；生活无规律，情绪易激动，精神处于紧张状态，或长期吸烟酗酒；缺乏运动等人群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缺点：需餐后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小时再次彩血检查，等候时间较长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00040" y="7858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甲状腺疾病筛查项目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28760" y="1500120"/>
          <a:ext cx="8501040" cy="3929040"/>
        </p:xfrm>
        <a:graphic>
          <a:graphicData uri="http://schemas.openxmlformats.org/drawingml/2006/table">
            <a:tbl>
              <a:tblPr/>
              <a:tblGrid>
                <a:gridCol w="3400560"/>
                <a:gridCol w="5100480"/>
              </a:tblGrid>
              <a:tr h="57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项目类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选择建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三碘甲状腺原氨酸（总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）、甲状腺腺素（总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）、游离三碘甲状腺原氨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T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）、游离甲状腺激素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T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）、促甲状腺生成素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SH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）、甲状腺球蛋白、抗甲状腺球蛋白抗体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TG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）、抗甲状腺过氧化物酶抗体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TA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适用于放射性暴露、碘摄入异常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岁以上女性、有甲状腺疾病家族史者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00040" y="7858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女性筛查项目一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推荐）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28760" y="1500120"/>
          <a:ext cx="8501040" cy="4143240"/>
        </p:xfrm>
        <a:graphic>
          <a:graphicData uri="http://schemas.openxmlformats.org/drawingml/2006/table">
            <a:tbl>
              <a:tblPr/>
              <a:tblGrid>
                <a:gridCol w="3400560"/>
                <a:gridCol w="5100480"/>
              </a:tblGrid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项目类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选择建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29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宫颈液基细胞检查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C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ts val="29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女性宫颈癌筛查的主要项目。适用于有性生活史的妇女，一般一年一次，连续三年检查正常，可以两年一次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ts val="27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乳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普通女性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岁以后每年一次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危女性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岁以后每年一次，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岁以上应加拍乳腺钼靶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500040" y="7858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、女性疾病筛查项目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28760" y="1285920"/>
          <a:ext cx="8501040" cy="4975200"/>
        </p:xfrm>
        <a:graphic>
          <a:graphicData uri="http://schemas.openxmlformats.org/drawingml/2006/table">
            <a:tbl>
              <a:tblPr/>
              <a:tblGrid>
                <a:gridCol w="3400560"/>
                <a:gridCol w="5100480"/>
              </a:tblGrid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项目类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选择建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乳腺钼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因有放射性，若非高危人群，不必每年检查，高危女性：建议每年一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缺点：（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）放射性检查；（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）检查和等待时间长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2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血同型半胱氨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推荐有心脑血管危险因素者均可检查，如家族史、向心性肥胖、血压偏高、高血压、空腹血糖受损、糖尿病、血脂异常、吸烟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型性格等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500040" y="7858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、女性疾病筛查项目三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</a:rPr>
              <a:t>（推荐）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宋体"/>
              </a:rPr>
              <a:t>备注</a:t>
            </a:r>
            <a:r>
              <a:rPr b="1" lang="en-US" sz="2200" spc="-1" strike="noStrike">
                <a:solidFill>
                  <a:srgbClr val="c00000"/>
                </a:solidFill>
                <a:latin typeface="宋体"/>
              </a:rPr>
              <a:t>: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）宫颈癌是目前唯一一个病因明确的恶性肿瘤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</a:rPr>
              <a:t>HPV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感染和宫颈癌癌前病变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</a:rPr>
              <a:t>(2)HPV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分高危型和低危型；只有极少数高危型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</a:rPr>
              <a:t>HPV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（如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</a:rPr>
              <a:t>HPV16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</a:rPr>
              <a:t>HPV18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）病毒与宫颈癌有关，大部分女性属于一过性携带。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28760" y="1500120"/>
          <a:ext cx="8501040" cy="1500120"/>
        </p:xfrm>
        <a:graphic>
          <a:graphicData uri="http://schemas.openxmlformats.org/drawingml/2006/table">
            <a:tbl>
              <a:tblPr/>
              <a:tblGrid>
                <a:gridCol w="3400560"/>
                <a:gridCol w="5100480"/>
              </a:tblGrid>
              <a:tr h="57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项目类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选择建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人类乳头状病毒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HP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）测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有性生活史者，建议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至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岁期间联合宫颈刮片，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年检查一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zh-CN" sz="5000" spc="-1" strike="noStrike">
                <a:solidFill>
                  <a:srgbClr val="c00000"/>
                </a:solidFill>
                <a:latin typeface="Calibri"/>
              </a:rPr>
              <a:t>什么是</a:t>
            </a:r>
            <a:r>
              <a:rPr b="1" lang="zh-CN" sz="5000" spc="-1" strike="noStrike">
                <a:solidFill>
                  <a:srgbClr val="c00000"/>
                </a:solidFill>
                <a:latin typeface="Calibri"/>
              </a:rPr>
              <a:t>“</a:t>
            </a:r>
            <a:r>
              <a:rPr b="1" lang="zh-CN" sz="5000" spc="-1" strike="noStrike">
                <a:solidFill>
                  <a:srgbClr val="c00000"/>
                </a:solidFill>
                <a:latin typeface="Calibri"/>
              </a:rPr>
              <a:t>1+X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99680" y="1428840"/>
            <a:ext cx="8472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基本体检项目；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形成健康体检报告和个人健康管理档案的必需项目；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包含内容：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714240" y="3429000"/>
          <a:ext cx="7786800" cy="2889360"/>
        </p:xfrm>
        <a:graphic>
          <a:graphicData uri="http://schemas.openxmlformats.org/drawingml/2006/table">
            <a:tbl>
              <a:tblPr/>
              <a:tblGrid>
                <a:gridCol w="1589040"/>
                <a:gridCol w="6197760"/>
              </a:tblGrid>
              <a:tr h="81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体格检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0c9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身高体重、血压、内科、外科、眼科、耳鼻喉科检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0c9f8"/>
                    </a:solidFill>
                  </a:tcPr>
                </a:tc>
              </a:tr>
              <a:tr h="106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实验室检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三大常规（血、尿、粪）、肝肾功能、血糖、血脂、肿瘤标志物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项、血清幽门螺旋杆菌抗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仪器检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心电图、胸部正侧位片、超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【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肝胆脾胰双肾、甲状腺、前列腺（男性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岁以上）、子宫附件（女性）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dfa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500040" y="7858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肺癌疾病筛查项目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28760" y="1500120"/>
          <a:ext cx="8501040" cy="2428920"/>
        </p:xfrm>
        <a:graphic>
          <a:graphicData uri="http://schemas.openxmlformats.org/drawingml/2006/table">
            <a:tbl>
              <a:tblPr/>
              <a:tblGrid>
                <a:gridCol w="3400560"/>
                <a:gridCol w="510048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项目类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选择建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胸部低剂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扫描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适应人群：长期吸烟或被动吸烟、环境污染接触、有肺癌家族史者，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岁以上建议每年检查一次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zh-CN" sz="5000" spc="-1" strike="noStrike">
                <a:solidFill>
                  <a:srgbClr val="c00000"/>
                </a:solidFill>
                <a:latin typeface="Calibri"/>
              </a:rPr>
              <a:t>什么是</a:t>
            </a:r>
            <a:r>
              <a:rPr b="1" lang="zh-CN" sz="5000" spc="-1" strike="noStrike">
                <a:solidFill>
                  <a:srgbClr val="c00000"/>
                </a:solidFill>
                <a:latin typeface="Calibri"/>
              </a:rPr>
              <a:t>“</a:t>
            </a:r>
            <a:r>
              <a:rPr b="1" lang="zh-CN" sz="5000" spc="-1" strike="noStrike">
                <a:solidFill>
                  <a:srgbClr val="c00000"/>
                </a:solidFill>
                <a:latin typeface="Calibri"/>
              </a:rPr>
              <a:t>1+X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健康体检的“专项体检项目”（备选项目）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zh-CN" sz="2600" spc="-1" strike="noStrike">
                <a:solidFill>
                  <a:srgbClr val="c00000"/>
                </a:solidFill>
                <a:latin typeface="Constantia"/>
              </a:rPr>
              <a:t>意义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：主要针对不同年龄、性别及疾病风险的个体，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进行的专项筛查项目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Calibri"/>
              </a:rPr>
              <a:t>“</a:t>
            </a:r>
            <a:r>
              <a:rPr b="0" lang="zh-CN" sz="5400" spc="-1" strike="noStrike">
                <a:solidFill>
                  <a:srgbClr val="c00000"/>
                </a:solidFill>
                <a:latin typeface="Calibri"/>
              </a:rPr>
              <a:t>X”</a:t>
            </a:r>
            <a:r>
              <a:rPr b="0" lang="zh-CN" sz="5400" spc="-1" strike="noStrike">
                <a:solidFill>
                  <a:srgbClr val="c00000"/>
                </a:solidFill>
                <a:latin typeface="Calibri"/>
              </a:rPr>
              <a:t>项目内容及意义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28760" y="2356920"/>
            <a:ext cx="85010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（一）高知健康体检备选项目选择建议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500040" y="50004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消化系统肿瘤标志物、心血管及甲状腺疾病筛查项目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28760" y="1357200"/>
          <a:ext cx="8501040" cy="4896000"/>
        </p:xfrm>
        <a:graphic>
          <a:graphicData uri="http://schemas.openxmlformats.org/drawingml/2006/table">
            <a:tbl>
              <a:tblPr/>
              <a:tblGrid>
                <a:gridCol w="3400560"/>
                <a:gridCol w="5100480"/>
              </a:tblGrid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项目类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选择建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血清糖类抗原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24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A-724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；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血清糖类抗原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4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A-24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倾向于消化系统的肿瘤标志物，对有胃溃疡、胃肠肿瘤家族史等，有经常食用烟熏、腌制、高盐、霉变食物习惯的可选择定期检查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尿微量白蛋白、尿转铁蛋白、尿免疫球蛋白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、尿视黄醇结合蛋白、尿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AG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酶、尿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α1-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微球蛋白、尿肌酐、尿微量白蛋白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尿肌酐、尿免疫球蛋白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尿肌酐、尿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α1-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微球蛋白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尿肌酐；血载脂蛋白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和血载脂蛋白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适用于高血脂、高血压家族史；冠心病、脑血管病或周围动脉粥样硬化；大于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岁的男性、绝经期后的女性；高血压、高血糖、高体重；经常食用高热量、高胆固醇、高饱和脂肪酸类食物；生活无规律，情绪易激动，精神处于紧张状态，或长期吸烟酗酒；缺乏运动等人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甲状腺功能检查：总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、总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T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T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适用于放射性暴露、碘摄入异常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岁以上女性、有甲状腺疾病家族史者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500040" y="50004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呼吸系统肿瘤标志物、心血管及甲状腺疾病筛查项目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28760" y="1357200"/>
          <a:ext cx="8501040" cy="4923000"/>
        </p:xfrm>
        <a:graphic>
          <a:graphicData uri="http://schemas.openxmlformats.org/drawingml/2006/table">
            <a:tbl>
              <a:tblPr/>
              <a:tblGrid>
                <a:gridCol w="3400560"/>
                <a:gridCol w="5100480"/>
              </a:tblGrid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项目类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选择建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神经元特异烯醇化酶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SE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）、鳞状上皮细胞癌相关抗原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C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倾向于呼吸系统的肿瘤标志物，适用于中年、长期吸烟、环境污染、有肿瘤家族史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尿微量白蛋白、尿转铁蛋白、尿免疫球蛋白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、尿四环醇结合蛋白、尿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AG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酶、尿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α1-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微球蛋白、尿肌酐、尿微量白蛋白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尿肌酐、尿免疫球蛋白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尿肌酐、尿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α1-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微球蛋白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尿肌酐、血载脂蛋白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和血载脂蛋白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适用于高血脂、高血压家族史；冠心病、脑血管病或周围动脉粥样硬化；大于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岁的男性、绝经期后的女性；高血压、高血糖、高体重；经常食用高热量、高胆固醇、高饱和脂肪酸类食物；生活无规律，情绪易激动，精神处于紧张状态，或长期吸烟酗酒；缺乏运动等人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甲状腺功能检查：总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、总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T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T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SH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、甲状腺球蛋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适用于放射性暴露、碘摄入异常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岁以上女性、有甲状腺疾病家族史者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00040" y="7858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糖尿病、代谢疾病及骨密度筛查项目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28760" y="1785960"/>
          <a:ext cx="8501040" cy="3430440"/>
        </p:xfrm>
        <a:graphic>
          <a:graphicData uri="http://schemas.openxmlformats.org/drawingml/2006/table">
            <a:tbl>
              <a:tblPr/>
              <a:tblGrid>
                <a:gridCol w="3400560"/>
                <a:gridCol w="51004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项目类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选择建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空腹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肽、胰岛素；餐后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小时血糖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肽、胰岛素、血同型半胱氨酸、游离脂肪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适用于糖尿病、高血脂、高血压家族史；冠心病、脑血管病或周围动脉粥样硬化；大于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岁的男性、绝经期后的女性；高血压、高血糖、高体重；经常食用高热量、高胆固醇、高饱和脂肪酸类食物；生活无规律，情绪易激动，精神处于紧张状态，或长期吸烟酗酒；缺乏运动等人群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骨密度测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岁以上建议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-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年测一次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00040" y="7858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甲状腺疾病及超声骨密度筛查项目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28760" y="1500120"/>
          <a:ext cx="8501040" cy="4132440"/>
        </p:xfrm>
        <a:graphic>
          <a:graphicData uri="http://schemas.openxmlformats.org/drawingml/2006/table">
            <a:tbl>
              <a:tblPr/>
              <a:tblGrid>
                <a:gridCol w="3400560"/>
                <a:gridCol w="5100480"/>
              </a:tblGrid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项目类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选择建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9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三碘甲状腺原氨酸（总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）、甲状腺腺素（总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）、游离三碘甲状腺原氨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T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）、游离甲状腺激素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T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）、促甲状腺生成素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SH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）、甲状腺球蛋白、抗甲状腺球蛋白抗体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TG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）、抗甲状腺过氧化物酶抗体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TA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适用于放射性暴露、碘摄入异常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岁以上女性、有甲状腺疾病家族史者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ts val="27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骨密度测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岁以上建议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-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年测一次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00040" y="7858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女性筛查项目一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28760" y="1500120"/>
          <a:ext cx="8501040" cy="4842000"/>
        </p:xfrm>
        <a:graphic>
          <a:graphicData uri="http://schemas.openxmlformats.org/drawingml/2006/table">
            <a:tbl>
              <a:tblPr/>
              <a:tblGrid>
                <a:gridCol w="3400560"/>
                <a:gridCol w="5100480"/>
              </a:tblGrid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项目类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选择建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9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宫颈液基细胞检查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C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ts val="29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女性宫颈癌筛查的主要项目。适用于有性生活史的妇女，一般一年一次，连续三年检查正常，可以两年一次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ts val="27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乳腺钼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因有放射性，若非高危人群，不必每年检查，高危女性：建议每年一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缺点：（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）放射性检查；（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）检查和等待时间长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8T13:08:57Z</dcterms:created>
  <dc:creator>User</dc:creator>
  <dc:description/>
  <dc:language>en-US</dc:language>
  <cp:lastModifiedBy>微软用户</cp:lastModifiedBy>
  <dcterms:modified xsi:type="dcterms:W3CDTF">2016-02-16T07:24:44Z</dcterms:modified>
  <cp:revision>24</cp:revision>
  <dc:subject/>
  <dc:title>1+X健康体检套餐 解   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